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17913"/>
        <c:axId val="90930456"/>
      </c:barChart>
      <c:catAx>
        <c:axId val="41817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30456"/>
        <c:crosses val="autoZero"/>
        <c:auto val="1"/>
        <c:lblAlgn val="ctr"/>
        <c:lblOffset val="100"/>
        <c:noMultiLvlLbl val="0"/>
      </c:catAx>
      <c:valAx>
        <c:axId val="90930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17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016-E2BC-41AD-814E-61C47458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286-75AE-44FC-8235-AE1FF23B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EF6-C4C3-4E4B-83FC-140AF19D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54E-5D0C-4CC4-820B-781470AA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946-21D8-4C5E-9A0C-5C293FA2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34D-3399-4A8A-BB03-630387B1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F52-4AF7-4CC2-935A-28A7DD1C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FA2-B6BD-4E44-A910-43B6E33E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EEB-0BBB-405D-B16E-4FE736E7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C2E-F65E-4322-A7DB-05C04D03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5CF-ECE0-4EEB-A20F-3A365618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428-3EBF-45AB-BB78-DBE2480D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8DBF5-0139-4567-8FBD-BAF974AEBE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