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44090"/>
        <c:axId val="57581384"/>
      </c:barChart>
      <c:catAx>
        <c:axId val="45244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81384"/>
        <c:crosses val="autoZero"/>
        <c:auto val="1"/>
        <c:lblAlgn val="ctr"/>
        <c:lblOffset val="100"/>
        <c:noMultiLvlLbl val="0"/>
      </c:catAx>
      <c:valAx>
        <c:axId val="57581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44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7DE-D663-4DFC-B55D-695960A7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C0A-2865-401F-8193-E3DFA77D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9E0-1725-4015-9059-7A8CB2D8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B58-D0B5-4FBD-87A6-E70C7918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651-CA97-43E5-A21E-23254F89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A93-F64D-4A68-A9A4-51BF87C8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774-2141-4176-AD0C-D3F9CE43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A87-6E33-4A72-A1D6-062760FB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35C9-0173-4381-B4E0-C6549833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942-4021-4FE0-B97B-1243BF63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C4B-FD6A-4CAC-BE8C-9DA551D0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364-37B7-42A8-814D-A12DA732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14E8E-E269-4333-BFC1-29FBBD4F56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