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785665"/>
        <c:axId val="52547866"/>
      </c:barChart>
      <c:catAx>
        <c:axId val="97785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47866"/>
        <c:crosses val="autoZero"/>
        <c:auto val="1"/>
        <c:lblAlgn val="ctr"/>
        <c:lblOffset val="100"/>
        <c:noMultiLvlLbl val="0"/>
      </c:catAx>
      <c:valAx>
        <c:axId val="525478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85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DAAD-AAA9-4964-91C2-0D3B4EBF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F7E8-3D4D-4D81-9600-904802C7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8B07-7C50-4846-8B2F-B99957DC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6ACC-9C38-4250-BD34-0B84B1E5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A344-17FF-486E-9601-B83AAC6E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EB48-43F3-467A-9643-CD3CEAA7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908D-3F6F-45BD-AA37-E68E80CC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7E10-9A59-4C06-8AA8-254360FA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E346-F641-4DEF-A9DB-68D67CD4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1C19-D11D-42AE-906D-426DC87C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C855-E6B5-4A95-A651-2FA3F801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7A41-7B3E-41FB-B3D8-19F4BBC4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F0969-3FC1-45CF-901D-CFAAEFBA39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