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99596"/>
        <c:axId val="87478824"/>
      </c:barChart>
      <c:catAx>
        <c:axId val="298995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78824"/>
        <c:crosses val="autoZero"/>
        <c:auto val="1"/>
        <c:lblAlgn val="ctr"/>
        <c:lblOffset val="100"/>
        <c:noMultiLvlLbl val="0"/>
      </c:catAx>
      <c:valAx>
        <c:axId val="87478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995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B0E-EB86-4C4B-929B-B89EEFCF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139-49E7-4F9D-A126-87ABC420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7D6F-48A0-4679-97AE-6D986FF0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579-B93E-4B00-BED6-4600C0DB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981-E7A3-40D4-9C09-CF3C24E6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583-A0BA-40A4-A149-0E03C335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8D5-74B0-4EC7-93D8-E4CE2A4E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2152-103D-4F3E-97A0-857295FE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37F-D20E-49ED-B98B-5C8D7220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8F8-1D01-4752-B830-02563C44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B45B-25C7-4400-B291-76C72A86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835C-4BF6-4A7D-A15D-E42E7498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81CE0-DF9A-4AB7-B61D-CA8D2D881E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