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578097"/>
        <c:axId val="74999117"/>
      </c:barChart>
      <c:catAx>
        <c:axId val="485780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99117"/>
        <c:crosses val="autoZero"/>
        <c:auto val="1"/>
        <c:lblAlgn val="ctr"/>
        <c:lblOffset val="100"/>
        <c:noMultiLvlLbl val="0"/>
      </c:catAx>
      <c:valAx>
        <c:axId val="749991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780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520E-0839-4598-92C7-7442C491E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CF88-0858-4822-824D-40920672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ABD4-BC42-431F-AA4D-A32E26413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8BDE-94EA-49F3-ACD8-313F8ABB8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F1E9-9DFA-4827-A480-A159459B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E5CA-C813-4520-B6BF-B7EF10D1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DD8C-A9AE-449A-8B1C-7EB22AB8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D980-F301-4116-A292-F61CFB84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56A2-085E-4BD2-9B1A-E6725D7D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6DF0-A375-440F-A51B-B17CCB5B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CEF6-CADE-43A6-AF9B-F261A750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3BA1-1F38-4CCC-88C0-65739650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BF596-8CD7-41A2-BDE8-18CF7243B5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