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38959"/>
        <c:axId val="98730144"/>
      </c:barChart>
      <c:catAx>
        <c:axId val="28638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30144"/>
        <c:crosses val="autoZero"/>
        <c:auto val="1"/>
        <c:lblAlgn val="ctr"/>
        <c:lblOffset val="100"/>
        <c:noMultiLvlLbl val="0"/>
      </c:catAx>
      <c:valAx>
        <c:axId val="98730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38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1C1-7ACC-4A2B-B0BF-2B62BDEB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BC8-56EE-4AC0-B58E-5BE5DF53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9B9B-3975-4D5C-8E1A-3CFA7AD2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958-C6D8-4B17-ABBF-936AB874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404-3AF1-4E03-B9A2-A668D05F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1C6-342E-4DC4-ADAB-213278EC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059-8FC7-48C4-9170-59C5D68F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C1C-AED8-4913-B7A6-4B29E48D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1CC-58D1-452F-8AB4-CFD8828F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514-2D7D-4671-8972-009A964B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61E-5FEA-4D1F-8633-B4D3368F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4F7-B4C4-4A97-A0DB-8156CB76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4F96C-EDB4-46DA-9666-E9D9A4739F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