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00414"/>
        <c:axId val="66829828"/>
      </c:barChart>
      <c:catAx>
        <c:axId val="45100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29828"/>
        <c:crosses val="autoZero"/>
        <c:auto val="1"/>
        <c:lblAlgn val="ctr"/>
        <c:lblOffset val="100"/>
        <c:noMultiLvlLbl val="0"/>
      </c:catAx>
      <c:valAx>
        <c:axId val="66829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00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C588-8E7E-4C72-B53F-113E3E6D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B9E-9E4B-441C-8DAE-80F16AF2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C59-D8B6-431F-B63A-22223E79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63E-3893-4981-B524-00DB3B21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3F3-684E-451C-8C98-FEAAEF78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5D9-8BCA-43CE-96E0-B3490E30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4B7-62E4-43DF-B32C-0996EB64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0BC-64E3-4314-85EC-CE9E6983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6AC6-E311-43AE-AAA1-92985D1F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08C-F560-445A-8104-640CC16F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CEC9-C30B-4B8F-8862-96656102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C4C-0F68-4ED5-A3B8-0D76D470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249AD-98F6-4F67-920D-45CA84AC2E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