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5280"/>
        <c:axId val="35870336"/>
      </c:barChart>
      <c:catAx>
        <c:axId val="96475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0336"/>
        <c:crosses val="autoZero"/>
        <c:auto val="1"/>
        <c:lblAlgn val="ctr"/>
        <c:lblOffset val="100"/>
        <c:noMultiLvlLbl val="0"/>
      </c:catAx>
      <c:valAx>
        <c:axId val="35870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5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27A-F598-4C2F-B2A3-1B186E11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5B5-6939-449A-88E8-1B868385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D36-4F88-449D-BBB6-6E8E901E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900-E483-4B4E-AF78-86C01449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7CD-A9A6-46E4-BA88-20E3186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EEE-A1B0-478B-91C0-9B4F586D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DA0-6BCE-4B23-95FB-F3902F45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AE7-6361-425E-A3BC-55EE870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799-483A-490A-B6F8-ABC1D37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216-42C7-4A83-95D2-8E2E4F4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64D-F6D0-4F4F-8EBB-2B7970D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C7B-9B97-479D-A3EF-E93F3D3D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73E5A-1F09-43A5-BCAE-F2C1DB5E3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