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87430"/>
        <c:axId val="19416388"/>
      </c:barChart>
      <c:catAx>
        <c:axId val="89887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16388"/>
        <c:crosses val="autoZero"/>
        <c:auto val="1"/>
        <c:lblAlgn val="ctr"/>
        <c:lblOffset val="100"/>
        <c:noMultiLvlLbl val="0"/>
      </c:catAx>
      <c:valAx>
        <c:axId val="19416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87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4CB-C68F-48BA-80B8-67123525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449-307C-4B9E-91D9-4A89E83C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C51-D381-44E1-B54D-CBC85708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5BA-6E06-43DA-BB3A-27C1464E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11D-8749-4F94-B58C-42C4B25C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D95-7D52-4666-957B-3E0D6C18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F87-9CCC-4458-97B9-E45A6C7D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3A1-4EE0-4D07-90C1-A4D121DA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FE7-72C6-48C0-AFBD-F74EE6C1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DA4-3C17-4733-81C3-9A2F84AE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518-3981-4984-9B3C-1EF98E20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A58-FF54-4479-A629-DFB3BDB4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8523C-F805-40F6-95ED-333F829D68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