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99275"/>
        <c:axId val="43508895"/>
      </c:barChart>
      <c:catAx>
        <c:axId val="37899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8895"/>
        <c:crosses val="autoZero"/>
        <c:auto val="1"/>
        <c:lblAlgn val="ctr"/>
        <c:lblOffset val="100"/>
        <c:noMultiLvlLbl val="0"/>
      </c:catAx>
      <c:valAx>
        <c:axId val="4350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99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89C-258A-40FE-9487-9C33E36E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45C-C068-44CC-93C9-5682E10A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564-A729-4650-B143-F365025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153-5D18-442D-8769-1EDF472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37B-0EAF-4DF3-8C9B-96C412D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B3E-1B13-4821-A604-DEA9B4C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CC-2330-40E8-BBD7-7D8733C1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E67-38B8-41E5-8796-F53FDEE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456-7F0E-4247-A063-113D160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541-304E-43C6-A91C-0064ECF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627-8C66-458F-A156-B607832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0EB-5D81-4503-941B-74AF0BE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5B7E9-23A6-4F63-B83E-4CE9451460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