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43788"/>
        <c:axId val="91396873"/>
      </c:barChart>
      <c:catAx>
        <c:axId val="47143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96873"/>
        <c:crosses val="autoZero"/>
        <c:auto val="1"/>
        <c:lblAlgn val="ctr"/>
        <c:lblOffset val="100"/>
        <c:noMultiLvlLbl val="0"/>
      </c:catAx>
      <c:valAx>
        <c:axId val="91396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43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B28-7CAB-45FE-90FC-2463A65F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134-1E82-4E21-AEA8-BC9595DD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C34-81B9-417E-BEEC-F8C9FDA1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F22-EA42-4BF8-986E-F559EC48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D86-6A0E-4EEB-BE6F-9A30E2D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C18-2DFD-4B59-9FBB-31EC7451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E99-660D-4DD1-B941-5BF81D07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8EE-50D8-4932-8CED-BE99C5D1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901-6FAA-4B85-8A83-1161187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195-E4E9-4EFC-8A83-088E493C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E99-5F21-4724-96AB-4522925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036-39B7-4CC6-A3DB-FEFA093E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ABF34-56CC-4C4A-827B-AA7BB987A5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