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8776"/>
        <c:axId val="62186885"/>
      </c:barChart>
      <c:catAx>
        <c:axId val="9338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6885"/>
        <c:crosses val="autoZero"/>
        <c:auto val="1"/>
        <c:lblAlgn val="ctr"/>
        <c:lblOffset val="100"/>
        <c:noMultiLvlLbl val="0"/>
      </c:catAx>
      <c:valAx>
        <c:axId val="62186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8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EB0-94BA-4E20-83B6-BAC116FD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C5F-AF8B-48F8-A37F-6273AE2C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088-B61F-4D10-94E3-0E7D0D74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69C-0255-4045-8D7F-1D81583B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975-27DA-4BB9-8C67-4D10C204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3C6-FF6C-4559-860F-3FF2A0B7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7AC-587D-437A-BBC0-B5BD6BFC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2CA-B034-45F3-89C5-07A154D3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05B-8B80-4850-A144-976B9A6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2A9-FFC8-403F-9554-58718ABF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187-D8D5-4E12-B299-E83585CA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BB3-98FF-4CDD-9658-F35D59CF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A2F8B-53BC-4231-B91E-EDDBE335B8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