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4668"/>
        <c:axId val="6064954"/>
      </c:barChart>
      <c:catAx>
        <c:axId val="7444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4954"/>
        <c:crosses val="autoZero"/>
        <c:auto val="1"/>
        <c:lblAlgn val="ctr"/>
        <c:lblOffset val="100"/>
        <c:noMultiLvlLbl val="0"/>
      </c:catAx>
      <c:valAx>
        <c:axId val="6064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4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13D-76A2-47BA-8E83-B193F5A2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E1D-6518-491A-A550-4B5BB856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6C6-486F-40C8-AC3F-96D28379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BE2-0229-4F4A-B3CC-48E469D5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D52-A977-43B6-A9C1-3C05F3D3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392-433D-43A0-BE4E-F162490F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5F6-89AB-4BA2-8EB2-B7F0C2DC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47C-C5D1-459A-97D1-117B981F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F77-1FC6-4B7A-959D-4484B1A4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BC6-2C16-4C55-8AE4-AE6E1FCE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C2B-9EFA-4316-AE8C-1A63420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8D6-CC94-4CC0-B706-A174B30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BCD86-4B4B-4C6F-A68A-82DCE1441F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