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15784"/>
        <c:axId val="26528489"/>
      </c:barChart>
      <c:catAx>
        <c:axId val="58815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28489"/>
        <c:crosses val="autoZero"/>
        <c:auto val="1"/>
        <c:lblAlgn val="ctr"/>
        <c:lblOffset val="100"/>
        <c:noMultiLvlLbl val="0"/>
      </c:catAx>
      <c:valAx>
        <c:axId val="26528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15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188-A546-452D-B916-51F0CF36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819-59FE-4B30-9C29-87ABD8F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F97-A219-45B1-B9FB-9B329002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9B8-D25C-4BA9-84AA-13EE3A55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830-514F-45A9-A73A-E374D5EA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B29-B7D7-4F04-A001-5549AA9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2E4-41D7-441C-85E6-9749BC7A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6EB-9613-401D-876D-8C43F27F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281-A168-4FAB-BC35-A2DC1C42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91E-8328-4AA4-9531-970D85D5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C1A-D06C-4566-81B4-CB62D7B6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02E-3A25-4CC1-87FF-92DBA9D6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CF8AE-B24E-4328-AD05-1AA5F0E4AF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