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75001"/>
        <c:axId val="77692276"/>
      </c:barChart>
      <c:catAx>
        <c:axId val="17575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92276"/>
        <c:crosses val="autoZero"/>
        <c:auto val="1"/>
        <c:lblAlgn val="ctr"/>
        <c:lblOffset val="100"/>
        <c:noMultiLvlLbl val="0"/>
      </c:catAx>
      <c:valAx>
        <c:axId val="77692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75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B25-1EC8-41EA-BEF0-BD15E8EC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654-0340-4301-8C5A-003E9D39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ED3-CEE4-4F3B-ADFB-5F2CA98A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7FB-A997-4F25-B8F9-610D6664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926-8F43-47D3-959F-7C1E5949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508-C553-4812-909A-A0A72E6B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89BA-A8AB-4675-B1C7-C87005F4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3DD-2D28-43A6-BA68-CAFD1063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78C-0CF5-4C87-8C28-7F760702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466-F90B-45BE-9319-9D157FE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75D-2FA0-4DA2-8312-3C6297BA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8FE-BF9D-41A6-AE3D-6F8ABE5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72F2F-BD23-4E8D-A649-FD51593538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