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277241"/>
        <c:axId val="89075395"/>
      </c:barChart>
      <c:catAx>
        <c:axId val="192772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75395"/>
        <c:crosses val="autoZero"/>
        <c:auto val="1"/>
        <c:lblAlgn val="ctr"/>
        <c:lblOffset val="100"/>
        <c:noMultiLvlLbl val="0"/>
      </c:catAx>
      <c:valAx>
        <c:axId val="890753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772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1ACD-C097-4AEE-A329-DE54EBE7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F55C-4438-4CEA-B401-793E7DA9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512C-6E73-43F4-8B42-BD904619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7B04-A10C-401D-B5BD-025E37AF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32B3-6FE7-4766-83A7-C72A518C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A6D3-D7C8-4964-88DB-F5F5E142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BE0B-92A7-4B6F-B815-A122509C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9EE5-1E93-4E47-89AE-A092E69C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C0D1-AFBD-4DAA-85DA-1B6F1B8F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0C99-E8CC-4C80-BD71-438305B4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5CC7-1397-4C26-B9F0-847BB3B4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1BF3-F1CB-4D46-ABD6-8804019C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60826-811A-48FA-84CB-78FB18EC77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