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3309"/>
        <c:axId val="94898081"/>
      </c:barChart>
      <c:catAx>
        <c:axId val="22233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8081"/>
        <c:crosses val="autoZero"/>
        <c:auto val="1"/>
        <c:lblAlgn val="ctr"/>
        <c:lblOffset val="100"/>
        <c:noMultiLvlLbl val="0"/>
      </c:catAx>
      <c:valAx>
        <c:axId val="94898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3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290-20DA-43A6-B15B-C9BC3AB1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3AF-C782-465B-A172-0C5B76DB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5A6-4E0A-43D1-BCA3-100734EE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DD7-78DC-48AB-BB08-7C8CC474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5F2-E961-4ECF-914E-EE46724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438-4629-4431-B3E9-D1C79A3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377-708E-4AF3-A6C4-FA2624E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01D-077D-4898-858B-49D410A5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FD0-72A0-4643-9885-7D15C06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828-DDB4-4AAF-8607-2F813AF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B51-A9B2-4A52-88F5-545F03D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F2A-8C50-4FD7-B0EE-0E78B0D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10653-0A99-4A43-AD9A-BD210B20F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