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90845"/>
        <c:axId val="2717942"/>
      </c:barChart>
      <c:catAx>
        <c:axId val="75490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7942"/>
        <c:crosses val="autoZero"/>
        <c:auto val="1"/>
        <c:lblAlgn val="ctr"/>
        <c:lblOffset val="100"/>
        <c:noMultiLvlLbl val="0"/>
      </c:catAx>
      <c:valAx>
        <c:axId val="2717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90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53B-FAA1-4677-9346-CEBB131D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3FE-35A4-42F6-87BF-28E88224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7A4-25ED-4CFD-BBB8-B8A4FAE5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16F-6009-467E-9468-61B07647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0A8-26B1-4F32-BE8A-9DA853E9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441-09B5-4D95-A86F-ACED0062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03D-B3B3-4397-AB9F-E566ECE4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4EB-A594-472A-B8E5-C8067B01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2D5-A2FE-4AB5-9B20-89FAAF70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58B-E529-4A80-BB44-57C2D3F6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7EE-929E-4FCB-BC9B-FB3130F6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B96-CF0C-41E2-AC4A-C7B73710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CD7A5-BCF7-48A2-BC59-AB78E7C1E1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