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4477447"/>
        <c:axId val="39432193"/>
      </c:barChart>
      <c:catAx>
        <c:axId val="1447744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432193"/>
        <c:crosses val="autoZero"/>
        <c:auto val="1"/>
        <c:lblAlgn val="ctr"/>
        <c:lblOffset val="100"/>
        <c:noMultiLvlLbl val="0"/>
      </c:catAx>
      <c:valAx>
        <c:axId val="3943219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47744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58CD7-A99A-4D91-8426-D6CB347BF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9DD26-7C5C-4B9E-8994-D434E36AD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64F27-A44A-452C-8A83-BB4D3C944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983AA-54F8-4ACB-B3F5-7236FD65F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113C9-83E0-417A-9668-1A84FC740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071ED-F6D0-4FF4-A306-9C574C17D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BB56E-F94D-4BAC-A7AD-CBE59C597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9DB73-59DE-4194-8EEC-B96EA5C0E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D3F53-D60D-44D9-8F5C-E05E94A5E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38834-8041-4491-AFAD-2BB441C44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8C01F-C250-4631-94C3-78B347712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73F03-ED2F-420E-B92C-881A8D043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9992EF-9AAD-4616-BCA3-EBBAEEAA069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