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854"/>
        <c:axId val="19745871"/>
      </c:barChart>
      <c:catAx>
        <c:axId val="620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45871"/>
        <c:crosses val="autoZero"/>
        <c:auto val="1"/>
        <c:lblAlgn val="ctr"/>
        <c:lblOffset val="100"/>
        <c:noMultiLvlLbl val="0"/>
      </c:catAx>
      <c:valAx>
        <c:axId val="19745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9219-8C8F-4F9D-BE62-365637FD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041-1AFE-4603-A9DF-3A3EB98D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DB5-AB76-4C08-AC3E-D4A53DD3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FE0F-6D9B-4ADB-B021-1758E583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4566-097B-4660-AE4C-3A1E9BD3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255-2F10-447A-995D-0B543A1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46CD-2D51-43EF-8470-0D01908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518-2BF0-4D8A-A5F1-ED33A33A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ED0-15A1-48D5-897B-8A104461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2988-BB98-4305-8DB8-6EFEFA62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599-EA8E-40BF-926C-CC6088F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4C0-76DE-4AD9-8F4F-1F54ADC0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86E33D-A8C1-4E93-98CF-4DADEDB42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