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921515"/>
        <c:axId val="67919742"/>
      </c:barChart>
      <c:catAx>
        <c:axId val="739215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19742"/>
        <c:crosses val="autoZero"/>
        <c:auto val="1"/>
        <c:lblAlgn val="ctr"/>
        <c:lblOffset val="100"/>
        <c:noMultiLvlLbl val="0"/>
      </c:catAx>
      <c:valAx>
        <c:axId val="679197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215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13EC-9658-40B6-9114-7A95F50E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2B6E-2228-4C0E-B813-98D3339B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7C4F-837A-4A50-8217-E6CD714E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9BF7-FF86-4312-AF74-51E9295A1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98A2-3CCF-4E46-9671-B000FBAD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3E05-029B-4D82-AA4C-B1398C5F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C4DC-CE3F-4788-8004-29486AB7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804E-BD23-44C4-8ED5-784C618E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79EA-890F-459C-8037-C10BEAB6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40F2-7C63-415A-AE73-CB7A8BB8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6BA1-0F62-40C4-8531-E8F9591F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2D55-E44E-41F1-A96F-D40E43C3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9FC27-5F50-4397-BFAF-F571918C40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