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11066"/>
        <c:axId val="27726846"/>
      </c:barChart>
      <c:catAx>
        <c:axId val="76011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26846"/>
        <c:crosses val="autoZero"/>
        <c:auto val="1"/>
        <c:lblAlgn val="ctr"/>
        <c:lblOffset val="100"/>
        <c:noMultiLvlLbl val="0"/>
      </c:catAx>
      <c:valAx>
        <c:axId val="27726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11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261-314E-4588-B1D7-07C90136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39C-9CDC-48CC-9423-32F1B8D1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A19-D430-4BB8-853F-1942884C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BCD-E51D-49D7-B57E-82E80965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CAD-BD49-4BBA-B35D-32FEDC67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3E7-E3C1-4927-8928-84B9F3C6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C33-F002-4E24-81EF-E13E0778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9CC-AC5F-4297-A209-2E956ED0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007-96AE-4A2A-AE7C-BC6EC8EC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17D-E9D0-4048-B730-6C399C47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F0B-9317-470E-9DB9-DF7D57C2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AFC-A8B1-40E1-9A6E-CA75D428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28A96-6299-44B4-8258-D1B48106C2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