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999417"/>
        <c:axId val="32202412"/>
      </c:barChart>
      <c:catAx>
        <c:axId val="609994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202412"/>
        <c:crosses val="autoZero"/>
        <c:auto val="1"/>
        <c:lblAlgn val="ctr"/>
        <c:lblOffset val="100"/>
        <c:noMultiLvlLbl val="0"/>
      </c:catAx>
      <c:valAx>
        <c:axId val="322024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9994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8A3F-123B-4BC4-B590-B40B23122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3D5B-2C09-4F2F-95C5-8D01450E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1E24-296C-42CC-BF46-74469159C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13C2-443A-45F5-A33A-7D56860FA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84CF-3B22-4088-AE79-C8AD4F11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44FE-FDAE-4A16-B997-BED67C9A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6F21-44E0-43D4-AD36-D72ACE32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6C28-340C-48BE-A1F5-8627E0D0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81A8-671C-457D-8068-AFC5F6AD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95AC-8939-4094-B5BA-63B2C1C0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55AC-054C-4BE4-BFBA-7AAF02AF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D264-2B95-4A18-A457-868DCC9C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AE08E7-86F6-4432-AD27-36C5C4F352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