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45824"/>
        <c:axId val="48851091"/>
      </c:barChart>
      <c:catAx>
        <c:axId val="62045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51091"/>
        <c:crosses val="autoZero"/>
        <c:auto val="1"/>
        <c:lblAlgn val="ctr"/>
        <c:lblOffset val="100"/>
        <c:noMultiLvlLbl val="0"/>
      </c:catAx>
      <c:valAx>
        <c:axId val="48851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45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03F-0C26-4512-B418-25256B3F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12C-53DF-49F0-989B-6530CB01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623-8A06-49FD-B7C4-50BCCC7A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BE9-BA92-4DA5-9FA8-05810E2B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133-7462-4D87-8232-22F35142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AC7-B57A-4A91-B81A-31B76E92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285-9C73-4184-ACF3-A0D98683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151-0089-4E3B-B00D-E0832BFC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15A-558C-41A1-A2BC-E51882C2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445-8C32-4B3A-A072-95082680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01F-608E-4988-8198-F168A6B3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AB8-F3D0-461A-BF71-744516FA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1E367-3587-43CB-A8B1-9CE19E08DC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