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75793"/>
        <c:axId val="8970291"/>
      </c:barChart>
      <c:catAx>
        <c:axId val="62475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0291"/>
        <c:crosses val="autoZero"/>
        <c:auto val="1"/>
        <c:lblAlgn val="ctr"/>
        <c:lblOffset val="100"/>
        <c:noMultiLvlLbl val="0"/>
      </c:catAx>
      <c:valAx>
        <c:axId val="8970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75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023-D3F7-4029-B5CE-CDE68D9A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F5B-0AE1-43D7-A976-FF4D4AF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824-22A2-4189-87E1-CEF5280C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E22-F5F0-4CA3-99C5-461D85DB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0AF-A3C3-4D84-AD66-FD1C89E4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EFC-8A41-4EBF-9DE3-2F684E9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B13-C644-4F1E-A18B-FC01FDC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48E-4882-4A0A-965A-47EEF0F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80E-003C-40FA-9B63-7DF27597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2BB-5819-4C5D-8391-FF36993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4EF-1330-4E99-89AD-E9A5F62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B6B-E8AC-4A62-A10D-3B4A010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7C85D-DECC-4008-85A3-A3BC943B9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