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75659"/>
        <c:axId val="58072393"/>
      </c:barChart>
      <c:catAx>
        <c:axId val="67175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72393"/>
        <c:crosses val="autoZero"/>
        <c:auto val="1"/>
        <c:lblAlgn val="ctr"/>
        <c:lblOffset val="100"/>
        <c:noMultiLvlLbl val="0"/>
      </c:catAx>
      <c:valAx>
        <c:axId val="58072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75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DB2-B21B-4DD1-8490-4916F486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635-330D-4351-9045-7E938C86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F97-5A17-4210-B6C8-ADFDD5C5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C8D-8734-47C7-9196-04A46E1B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9B6-24F3-4AF6-A6EC-0139CD37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300-48AB-47C9-90B3-1AC2E5D0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DE2-B3B3-42FB-8D58-841A81C5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76A-E7F2-423B-BC1D-9ED742CB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8ED-8800-4865-873E-977BEA30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59F-2287-48FE-A6D1-BF8836A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397-D7C4-4788-807A-521D5F23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340-3525-485C-AC91-C5AF4678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4890F-31FD-4412-B86E-C9558D1301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