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87280"/>
        <c:axId val="53994135"/>
      </c:barChart>
      <c:catAx>
        <c:axId val="60087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94135"/>
        <c:crosses val="autoZero"/>
        <c:auto val="1"/>
        <c:lblAlgn val="ctr"/>
        <c:lblOffset val="100"/>
        <c:noMultiLvlLbl val="0"/>
      </c:catAx>
      <c:valAx>
        <c:axId val="53994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87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F20-2C7F-4162-8F9B-2B47DDD0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BA6-4351-4D24-9851-1B39678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5C5-F6C3-42D6-82D2-21BCF33A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D86-099A-4AB4-8594-4AAD7FDA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B06-2FDC-48F6-84EC-CD446A22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8ED-EDFF-47B5-ABC3-D4B64377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D9B-05D8-45BB-90F1-2B6765AD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3FB-824D-4FB2-AB3D-CC82FD4E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333-58F3-48DE-88CB-C7C81498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1B0-5314-4328-AFC6-3470B325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A5A-8BDE-4309-B7EA-035A9852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736-7E34-4B33-89EC-F65551FA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111AE-43E8-441E-81C4-DB15FA0E03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