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39201"/>
        <c:axId val="76678428"/>
      </c:barChart>
      <c:catAx>
        <c:axId val="22539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78428"/>
        <c:crosses val="autoZero"/>
        <c:auto val="1"/>
        <c:lblAlgn val="ctr"/>
        <c:lblOffset val="100"/>
        <c:noMultiLvlLbl val="0"/>
      </c:catAx>
      <c:valAx>
        <c:axId val="76678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39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95C-0653-439C-AB89-BF05C1C7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53D-0674-4263-8F38-A367A42B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CB00-3EBA-48C1-96B9-64D7CFFA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96A-72F3-4B9D-91C2-0CFA667B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9AC-3DDF-452A-9913-47777B6B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7CF-5CDC-402E-A31C-BC5B8F81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E58-22A4-4E27-8F8D-4CDBF092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ABC-C365-443E-AC05-E19335F3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980-5484-4E77-BC6A-73DE4D71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6E8-A1E8-4104-9DB7-1CBAA7DB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05A-2B7F-446C-BE74-DA9EAFDC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A73-001F-4962-9D0B-448F1184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ED259-E357-4C84-905F-0F65C5A53E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