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3570"/>
        <c:axId val="74467773"/>
      </c:barChart>
      <c:catAx>
        <c:axId val="4113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67773"/>
        <c:crosses val="autoZero"/>
        <c:auto val="1"/>
        <c:lblAlgn val="ctr"/>
        <c:lblOffset val="100"/>
        <c:noMultiLvlLbl val="0"/>
      </c:catAx>
      <c:valAx>
        <c:axId val="74467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3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631-210A-45EC-8706-BF00D242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7459-92E5-4D26-82F1-B1E9A0A6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DDF-8E52-4085-A567-EEB57C25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5CD-8A92-4405-8BB6-041F4AF3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7A45-A95C-47D6-974A-D67361C9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BE96-8B93-4868-A069-4A46D446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D8F8-5B91-4085-A73A-41F76710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568C-BF2B-469E-AE2E-82875F1D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FB9-E97F-4744-80CF-E41E9E92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CD2-0244-481C-9320-C7838FBC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1010-7FF8-43E6-BA99-D3AF0E3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811-B1D7-4CFA-BC55-1F4478A4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3F2F4-80A5-42E7-A901-883E598FF8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