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38076"/>
        <c:axId val="88867835"/>
      </c:barChart>
      <c:catAx>
        <c:axId val="13738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67835"/>
        <c:crosses val="autoZero"/>
        <c:auto val="1"/>
        <c:lblAlgn val="ctr"/>
        <c:lblOffset val="100"/>
        <c:noMultiLvlLbl val="0"/>
      </c:catAx>
      <c:valAx>
        <c:axId val="88867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38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CD1-0E76-43C0-B6F2-8F1EC55F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53A-D6E8-452B-A149-1EDDE7AA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507-90C7-42E0-95FE-FED3AAFE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81E-F7EF-4EF6-8280-A40EC853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1D4-1D9E-4F5E-A43E-FF6E562E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6E5-8873-4EB7-A518-8E61F80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AF6-9F5D-4EA1-AE55-3EDA5448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E1C-0150-48BC-AF5A-EDFB646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78A-2D5A-4683-96A9-A6D1C7CB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05B-0491-419F-96B0-D79BF08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42B-5718-48E3-A249-F885E52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0B4-3323-42F7-B3E6-D2764DB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426F5-119A-40CA-88A7-02606E341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