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42034"/>
        <c:axId val="87417527"/>
      </c:barChart>
      <c:catAx>
        <c:axId val="95042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7527"/>
        <c:crosses val="autoZero"/>
        <c:auto val="1"/>
        <c:lblAlgn val="ctr"/>
        <c:lblOffset val="100"/>
        <c:noMultiLvlLbl val="0"/>
      </c:catAx>
      <c:valAx>
        <c:axId val="8741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42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C6E-7648-41C9-8A05-BA293F39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D27-371E-404D-8D5A-1CBCDAE8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ECF-E638-46A5-9AE8-885F23B9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165-B6E8-42DE-8DA2-8769D1B9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94A-D45F-459D-9544-A431227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FA7-14E8-49D5-A7C0-CC25F7D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E57-D527-4415-A7E7-D9FDCBC7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6A3-9827-4F7F-AF67-52325AD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157-662A-4AEA-B619-34EAE7EE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8B1-1473-41A0-84CE-A06CB35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EA5-0D79-4361-AF04-16F0F9E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91A-EBF3-4C94-9798-E63B971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F628-588D-4338-9888-0045A6E18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