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27970"/>
        <c:axId val="41165114"/>
      </c:barChart>
      <c:catAx>
        <c:axId val="51027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65114"/>
        <c:crosses val="autoZero"/>
        <c:auto val="1"/>
        <c:lblAlgn val="ctr"/>
        <c:lblOffset val="100"/>
        <c:noMultiLvlLbl val="0"/>
      </c:catAx>
      <c:valAx>
        <c:axId val="41165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27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468-CE73-4672-BAED-A90667BA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B08-7564-45A8-B48B-40529780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70C-A5EB-4029-94B1-ECA6DCF5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5A9-A82F-4E98-97B1-80F81607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674-7CA6-49A5-96D4-8DB4180C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906-53B1-482E-8A90-D143CEE5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02A-0B6D-47F2-A084-8308A318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D3B-2F77-497A-AC80-C3599722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CFC-D821-4326-BE36-90DDE99E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BA6-5608-4FDF-9602-09BD02DF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975-6DC5-48D0-9989-2F1A5997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FD4-EAC4-4927-9958-5E9302D9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70D23-F1C0-479E-AAA9-F524EE08DA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