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76550"/>
        <c:axId val="78066286"/>
      </c:barChart>
      <c:catAx>
        <c:axId val="81676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66286"/>
        <c:crosses val="autoZero"/>
        <c:auto val="1"/>
        <c:lblAlgn val="ctr"/>
        <c:lblOffset val="100"/>
        <c:noMultiLvlLbl val="0"/>
      </c:catAx>
      <c:valAx>
        <c:axId val="78066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76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EF1-2B07-4E93-B5AD-CF793CD7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12B-B4DF-4D22-B25A-61CE498C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986-9680-4D82-9332-0F4E4846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CEF-0562-4A2D-AC8A-3622A342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7B9-CBDB-4BE6-8102-16439494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0B7-6EB2-45AD-B8F8-88794D0C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093-1E45-4FD9-8784-DAC30A06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B3A-A9C6-49CE-8B14-4B147C8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208-7D7E-4EDA-BB7B-400B37E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2AB-CC7A-4C14-AFD5-8B90B405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331-2048-49E5-835E-7233DC8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67B-B374-44CE-86BD-A03FD893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A4166-74FF-4C5A-8674-6B1A20C53C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