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13175"/>
        <c:axId val="23419250"/>
      </c:barChart>
      <c:catAx>
        <c:axId val="24213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9250"/>
        <c:crosses val="autoZero"/>
        <c:auto val="1"/>
        <c:lblAlgn val="ctr"/>
        <c:lblOffset val="100"/>
        <c:noMultiLvlLbl val="0"/>
      </c:catAx>
      <c:valAx>
        <c:axId val="23419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3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791-6670-4E92-AA1B-03D2BC2C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19B-A08B-458A-9494-8EBF474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F16-D8C5-434B-8D42-029123D6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E0C-FDD8-416B-BAFE-7A706B94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701-247C-4242-BCB5-24EA642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2FF-377D-4576-BF1E-C045CAD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3D1-E6DD-4F76-AE60-AC1CEE30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925-9C3C-45C5-A017-7EF1929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9D3-827C-4C50-99DF-B06D0555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A53-D67F-4DD7-8FD8-C359E14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58F-E03C-40F3-A691-2172F57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7FF-CD6E-4B97-A6BD-DBEFD00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43F78-1ABD-42FF-BDD8-3EF0B7684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