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51242"/>
        <c:axId val="13604331"/>
      </c:barChart>
      <c:catAx>
        <c:axId val="45851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4331"/>
        <c:crosses val="autoZero"/>
        <c:auto val="1"/>
        <c:lblAlgn val="ctr"/>
        <c:lblOffset val="100"/>
        <c:noMultiLvlLbl val="0"/>
      </c:catAx>
      <c:valAx>
        <c:axId val="13604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51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94E-3E8E-48A4-A894-C408EF4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ACB-2196-4C6E-BF8A-E151BC9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1D2-B5FD-4F69-82F2-ECA7CEB6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67D-806D-41E0-B9B8-CE57E233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D7F-2341-4A4A-8938-C7BCDD5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853-9875-4C27-A452-2FACA12A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1EF-C4F5-4869-97F5-57DBA1E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009-7203-481D-8FFB-64A9584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A17-D684-48A6-AC26-8ADBFB0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4B0-00B3-4C35-84EA-9BE1B1F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3D0-D9B5-4E4B-83B2-F071811A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C2E-0818-40CE-B104-8774DC0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DF9C0-67F3-4A13-9961-A8A33B337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