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02349"/>
        <c:axId val="8407666"/>
      </c:barChart>
      <c:catAx>
        <c:axId val="92302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7666"/>
        <c:crosses val="autoZero"/>
        <c:auto val="1"/>
        <c:lblAlgn val="ctr"/>
        <c:lblOffset val="100"/>
        <c:noMultiLvlLbl val="0"/>
      </c:catAx>
      <c:valAx>
        <c:axId val="8407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02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CE5-303D-4C27-86C6-A955F577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51E-0369-4D28-9C3F-ADE10E8E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8F1-855B-40A8-B7DF-1752555C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6AB-CBA2-4C4A-B8AF-2CEF5848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DED-123A-4262-B3F0-27F7D193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EB9-FF8A-490E-9E68-64ABFA1B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5D5-126E-4E1D-A873-D3195247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4BA-3E1A-445C-B07A-78EEA3BF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E21-8514-4747-846F-191102BF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B24-FD5F-42D6-B8F8-2414C9E0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780-6642-4FDF-B34D-8F5DA5B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DA3-2901-4EBA-91B0-35C43FF3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5CC85-CFAA-463B-ACD0-DCEC5D94B8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