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54450"/>
        <c:axId val="41965955"/>
      </c:barChart>
      <c:catAx>
        <c:axId val="9154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65955"/>
        <c:crosses val="autoZero"/>
        <c:auto val="1"/>
        <c:lblAlgn val="ctr"/>
        <c:lblOffset val="100"/>
        <c:noMultiLvlLbl val="0"/>
      </c:catAx>
      <c:valAx>
        <c:axId val="41965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4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6E0-C65D-4522-8311-164EFD51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1B9-FEF2-46E3-97DF-6DC9D3FC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534-C345-4062-8E8D-0252FBAE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9D1-66F8-43FD-9B69-F85968E1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1CD-2DA5-45D3-A9DC-3B227A1E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95D8-51AF-41CD-9C0F-476643F5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7055-5C0D-4564-95CD-C9B69C33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A65F-0526-4DA9-81E1-2D22C746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F15-69F7-489E-B0CF-CFB15DA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96C-4935-4F04-AEF9-7E67C44B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0A9-52C4-43F4-9698-771CB830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DF3-ED11-47AC-B667-1FCA7144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A299E-AD83-4C49-A398-9451813CD9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