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026888"/>
        <c:axId val="15841772"/>
      </c:barChart>
      <c:catAx>
        <c:axId val="330268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841772"/>
        <c:crosses val="autoZero"/>
        <c:auto val="1"/>
        <c:lblAlgn val="ctr"/>
        <c:lblOffset val="100"/>
        <c:noMultiLvlLbl val="0"/>
      </c:catAx>
      <c:valAx>
        <c:axId val="158417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0268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1218-07A5-4060-B9B8-0521A1243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CE1E-FF93-4CBC-804B-B098D060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DABC-A8DB-4C7D-9825-17952D47D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C977-FFEF-4D36-B25F-2ABD02BB0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0E25-6C91-4B48-B82F-51B62374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E924-48C5-4FDB-B555-4BC621ED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2B9C-8759-4A06-B36F-25B97620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308B-7F60-4642-8BEF-C9DF435D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ADA6-DD8F-4C20-A174-9F9B1874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9BA3-0F2D-48C2-9CB2-531C1853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946C-71E5-4F09-A012-264AA41B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CDB5-4412-4819-926C-F9C79771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AF3F28-DC27-4769-80B8-EF55D4C392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