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00483"/>
        <c:axId val="88601958"/>
      </c:barChart>
      <c:catAx>
        <c:axId val="61500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01958"/>
        <c:crosses val="autoZero"/>
        <c:auto val="1"/>
        <c:lblAlgn val="ctr"/>
        <c:lblOffset val="100"/>
        <c:noMultiLvlLbl val="0"/>
      </c:catAx>
      <c:valAx>
        <c:axId val="88601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00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7DB-1B32-46B8-B27B-0C996BF5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E32-B893-4721-9FA0-9C566100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587-1FFF-42C7-A7A4-FF77FA1B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37A-9A78-4278-BC4C-4C980F36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D47-3C39-4786-96BC-34F8CD25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7C8-081E-4B15-8572-2B36EBEC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EFB-C735-4E39-B579-40E2316C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157-6D1F-4608-849B-B76546A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DDF-234E-4159-8BCC-71963CCF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8B8-6034-4D71-9FBF-5CB7C1B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D29-B2F7-4086-AD10-C2220CFE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7E0-0C2A-4FA3-98EE-EC31D4A5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9182E-EFC6-4BCF-8F39-93D0496FC7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