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11615"/>
        <c:axId val="54342207"/>
      </c:barChart>
      <c:catAx>
        <c:axId val="75611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42207"/>
        <c:crosses val="autoZero"/>
        <c:auto val="1"/>
        <c:lblAlgn val="ctr"/>
        <c:lblOffset val="100"/>
        <c:noMultiLvlLbl val="0"/>
      </c:catAx>
      <c:valAx>
        <c:axId val="54342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11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A8B-BCDA-49FA-AA6A-05E40403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72A-C022-4473-A2EA-53D68F94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6AC-D49F-4078-8CCE-24FFB3A0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D09-9E4D-4F9E-8AF6-07246CE2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383-807B-4369-9645-E1A36631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A1A-E5A6-4F50-B939-903180F6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BE7-87EE-4426-85F3-A8293D1C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34E-C5B3-4BAD-871F-84BC07A7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511-8F28-4663-B9C4-8856FD75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2A6-C1DD-4E7E-A401-92D82EAB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D19-6AE9-4E1B-8F6C-F470FB7D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3FE-1DB9-4785-8095-ED5E41B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E0974-16EA-43C9-91E7-485A55C5A8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