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75223"/>
        <c:axId val="1853091"/>
      </c:barChart>
      <c:catAx>
        <c:axId val="48175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091"/>
        <c:crosses val="autoZero"/>
        <c:auto val="1"/>
        <c:lblAlgn val="ctr"/>
        <c:lblOffset val="100"/>
        <c:noMultiLvlLbl val="0"/>
      </c:catAx>
      <c:valAx>
        <c:axId val="1853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75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C55-EF93-4B8A-A231-5FB641D3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32A-AA1E-4F34-BDAF-0915B6DF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15F-C86F-445A-A741-878B21A2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5CD-E395-4F80-ABA9-3AE07B61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CE4-607D-40AB-B8F9-F81DCF0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F10-833C-416E-93B7-28157C9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338-B617-4B48-B35D-7D69736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23-E58E-401F-94E8-7FCD4BF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30F-18AA-4130-A23F-01D79753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2A6-9B77-4C73-9545-14F4565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927-615E-47A1-B93E-A2A0AB2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B93-A7FE-430D-A3D9-5242874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1D770-F706-4B76-BC7D-FD0EA7CF1A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