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455243"/>
        <c:axId val="20751781"/>
      </c:barChart>
      <c:catAx>
        <c:axId val="814552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51781"/>
        <c:crosses val="autoZero"/>
        <c:auto val="1"/>
        <c:lblAlgn val="ctr"/>
        <c:lblOffset val="100"/>
        <c:noMultiLvlLbl val="0"/>
      </c:catAx>
      <c:valAx>
        <c:axId val="207517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552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209-D227-47B2-AEEA-BACD284B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F9E-EFCF-45A9-B601-BF499145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A99-108E-4ACF-AEE6-46981116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872-26B8-4FD3-8E41-72EBE8C9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70A-AE1B-499B-B624-B8B9C459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8D68-19F4-4EAF-AA00-3889BCCF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3C3-6387-4ED5-90F4-24F2D5E9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9F8-F80F-4179-9F89-60A04C02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DEE-EF54-4629-A110-6B0386DA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793-035F-4BB2-8E5E-E8408B2B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1CA-E775-4F8B-BC95-1B500CAE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438-F22D-40C7-9217-5D69331F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B3D08-A7D6-4233-A7AB-CBAA86D139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