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05310"/>
        <c:axId val="33344699"/>
      </c:barChart>
      <c:catAx>
        <c:axId val="46005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44699"/>
        <c:crosses val="autoZero"/>
        <c:auto val="1"/>
        <c:lblAlgn val="ctr"/>
        <c:lblOffset val="100"/>
        <c:noMultiLvlLbl val="0"/>
      </c:catAx>
      <c:valAx>
        <c:axId val="33344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05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640-D5EB-4953-9362-4312311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DFF-CBE3-4643-98DE-F4302E1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3FB-F79E-45AF-9298-403A27C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ABC-9095-4D56-8327-7A2129AF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A60-4DD2-4657-A9B9-471128F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B88-BEAE-4824-B250-7FCB8338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189-1EB3-4785-B648-A144559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A5D-7F07-48B4-A287-321DF76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4F2-0FFC-41EB-974F-7501302C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0D0-D2B6-4010-A058-F63671E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45D-AC36-4E3E-B6CA-FDA050E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FDB-2A8F-4119-BF58-160440B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D2B3-140D-4E35-A2FE-541D2B907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