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98820"/>
        <c:axId val="22524136"/>
      </c:barChart>
      <c:catAx>
        <c:axId val="82398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24136"/>
        <c:crosses val="autoZero"/>
        <c:auto val="1"/>
        <c:lblAlgn val="ctr"/>
        <c:lblOffset val="100"/>
        <c:noMultiLvlLbl val="0"/>
      </c:catAx>
      <c:valAx>
        <c:axId val="22524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98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A98-5EDA-4146-B0B8-45625465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8A5-73AC-49A3-B584-A0A1D988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E8A-90B0-4232-AABA-DFCDFD8E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380-7C95-494D-A34E-5840FEA9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8A6-9E88-4767-B50F-09B223A4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69F-C072-424F-B6A1-057BFBE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D86-109C-4CF0-89ED-ADEAAAF9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BD7-7EA2-416F-8630-8098BBCC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692-435D-4CF6-A972-098983AB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D0D-AECC-4E4F-80C3-0579CB1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632-502C-40A8-B0C0-AFFBF8B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4B5-B098-48E9-B5DC-13F899E8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99CBD-D40F-4165-8683-ED6EA58601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