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81147"/>
        <c:axId val="49739063"/>
      </c:barChart>
      <c:catAx>
        <c:axId val="69811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39063"/>
        <c:crosses val="autoZero"/>
        <c:auto val="1"/>
        <c:lblAlgn val="ctr"/>
        <c:lblOffset val="100"/>
        <c:noMultiLvlLbl val="0"/>
      </c:catAx>
      <c:valAx>
        <c:axId val="497390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11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61E8-391C-4312-83E1-4928B636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27FC-EB0F-4FEE-A4A2-6054C3F0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EBD-24F8-4D62-834D-F80CA6AA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36BB-8655-4497-9E3E-3AA71B1FE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0D03-6EBE-4C1D-8034-7C23572E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A7C3-E0EA-4D01-8970-35001452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F18E-905A-4448-AE33-E12E7DA3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28D4-366E-469C-9784-6A159B14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2543-C41C-4B5D-B7D1-26B7DFC9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79CB-701C-462C-B687-EBFB0384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368E-456D-4627-9B4D-8953BE7C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D47D-9F4B-441D-BC9A-9D65F6DB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6088A-5054-4777-9DF7-C233C77FB0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