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64022"/>
        <c:axId val="64420703"/>
      </c:barChart>
      <c:catAx>
        <c:axId val="16640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420703"/>
        <c:crosses val="autoZero"/>
        <c:auto val="1"/>
        <c:lblAlgn val="ctr"/>
        <c:lblOffset val="100"/>
        <c:noMultiLvlLbl val="0"/>
      </c:catAx>
      <c:valAx>
        <c:axId val="644207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640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F3BF-97BF-493C-BE72-B5FEF03F0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3599-132F-44A2-981E-C4C6018AE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4525-E606-4727-A1AE-281BB3175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297D-1F4C-4EF9-AFB5-E6AEDA537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735B-5C4E-4EA4-87B1-F782780DE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8E77-42C0-492C-B973-8192205AD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F6FA-1AFE-4745-A13D-E1D6E6452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B70A-1EAE-4FE0-951D-0156C5C67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83C2-213F-4488-AEB9-D4F55D6E5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7C9A-021C-4713-AED4-24CCEAF6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3460-8347-443C-8050-34B2D14E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84B3-68FD-46EA-90AA-39281700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DD5EAB-CC8C-4273-ACBC-61C5FBE83B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