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7834"/>
        <c:axId val="86829518"/>
      </c:barChart>
      <c:catAx>
        <c:axId val="76737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9518"/>
        <c:crosses val="autoZero"/>
        <c:auto val="1"/>
        <c:lblAlgn val="ctr"/>
        <c:lblOffset val="100"/>
        <c:noMultiLvlLbl val="0"/>
      </c:catAx>
      <c:valAx>
        <c:axId val="86829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7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865-98E4-4C3D-88D4-8BA7461C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0A8-6C44-4445-949D-FC86648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0F5-0777-450B-AE93-439E2FF8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87B-241E-4CC3-BE9F-6C1A097C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538-841D-41D4-9B07-71E0D2E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265-1BCB-498E-8544-CCFFD06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C81-06DB-412B-B932-ACF42CF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563-51A8-4AEB-AABA-FF34D8B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BED-DDB3-4125-BA15-91A5FAA7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598-3565-4FE8-BEC9-8B44EF9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B2A-C1F2-4DC8-B2FC-C548AC1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0EC-3C08-4FA7-B3BB-B039923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62521-5BA7-4D24-9BD1-AF5805B08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