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35226"/>
        <c:axId val="90928034"/>
      </c:barChart>
      <c:catAx>
        <c:axId val="40735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28034"/>
        <c:crosses val="autoZero"/>
        <c:auto val="1"/>
        <c:lblAlgn val="ctr"/>
        <c:lblOffset val="100"/>
        <c:noMultiLvlLbl val="0"/>
      </c:catAx>
      <c:valAx>
        <c:axId val="90928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35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0C8-0904-49F9-8F85-7B016EE6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9C1-F0C4-4826-9F0D-3827315A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350-36BF-4A6E-A90F-5A8F80B3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6CB2-7074-4AC3-B96C-9CA2901A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F58-688C-48AC-ADD0-EE99D311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A45-6E8D-47D5-9B77-4392549E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D97-7929-4603-A7D8-1DD89069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8AA-87BE-416E-8947-6E708204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BE7-E47C-456A-8EE3-4AA87BAD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6E3-81CE-48B9-BD24-ECFEE32E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FBE-6DB8-435B-92E9-FC5E8BFC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44A-150C-409E-ADC2-940DCD64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3A289-4312-401D-A0F0-F30EEBAFD5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