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343382"/>
        <c:axId val="4918328"/>
      </c:barChart>
      <c:catAx>
        <c:axId val="523433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8328"/>
        <c:crosses val="autoZero"/>
        <c:auto val="1"/>
        <c:lblAlgn val="ctr"/>
        <c:lblOffset val="100"/>
        <c:noMultiLvlLbl val="0"/>
      </c:catAx>
      <c:valAx>
        <c:axId val="49183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433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D69E-2D0A-4C1C-8AA3-6A73BE1A2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B8C8-3CFC-41AA-A24E-CC34BB1D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E351-F714-4C83-9401-1F86C7F5B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854D-5599-4F2A-9888-313FDFB28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B37F-5007-468D-AB57-3FB91630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5849-EDEE-4BBE-9531-EF88ACE2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7917-4236-488A-9D25-0A3CA911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5B14-8CD7-4784-9CCD-E4788860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3A77-5866-4E42-9A13-A5761EED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7D6B-790C-4059-B1A8-1C39DC17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D362-B139-4D48-BEB7-A5F442A3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946D-68C6-4A36-94CB-F8661CAC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E00AD-AE9E-4C89-B44D-7F1B63ECEE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