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86305"/>
        <c:axId val="8389251"/>
      </c:barChart>
      <c:catAx>
        <c:axId val="236863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9251"/>
        <c:crosses val="autoZero"/>
        <c:auto val="1"/>
        <c:lblAlgn val="ctr"/>
        <c:lblOffset val="100"/>
        <c:noMultiLvlLbl val="0"/>
      </c:catAx>
      <c:valAx>
        <c:axId val="83892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863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957E-1CBF-48F3-A375-2C9C64CC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D55-2DA9-424D-9360-08559D63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CCBE-A569-4237-8B3B-A67B9A8F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E12-1E56-4F75-8450-587E11F1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C450-6B13-415D-8AA5-57595427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9FFB-F2AD-4B45-9D7B-F0A849CC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381-02D3-4960-9427-D7CA13ED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61FC-287D-4A32-BF70-86EDF857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F13F-C42F-43A5-A993-B0270423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E1E1-B066-4141-9D23-02B45E9E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621-0412-4101-A0E3-78E5483E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8F56-CD33-4CB3-8A13-07D244B3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C5079-19ED-4920-9599-EFA76B4B70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