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090780"/>
        <c:axId val="25356560"/>
      </c:barChart>
      <c:catAx>
        <c:axId val="510907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56560"/>
        <c:crosses val="autoZero"/>
        <c:auto val="1"/>
        <c:lblAlgn val="ctr"/>
        <c:lblOffset val="100"/>
        <c:noMultiLvlLbl val="0"/>
      </c:catAx>
      <c:valAx>
        <c:axId val="253565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0907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1C61-E565-41CF-B455-B45218E88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223A-9FEF-4F8C-ACFC-E6B6F5CB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9E13-33E5-451A-A2FF-277D802DD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42E7-9414-4F19-A72E-EA7DD6414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6053-D478-49B2-87EB-03E87FE1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6A55-F199-42D6-89AE-FC383D4E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B35B-6AC0-4EF3-8ADA-B0CC1685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CEBE-6B07-4969-836B-0238D299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0296-1C93-4445-8003-0D98ADA4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BA38-B268-40F7-B7D2-B186C583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DA0A-CD9E-4C9A-835C-27C845D6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2F3D-4710-4137-B472-9551477F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0E350-D0D4-418D-AE2B-F4A312A6DB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